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095-2CCF-4E16-8B55-9CD848314D8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209C-01D3-4E5E-873A-ECEAB0808B0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10D-12E6-4FDE-9352-EEB1536798E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CE24-152A-4532-A25F-E2D63B03D73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3B41-CB7A-4242-8153-BA8D15D9204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91C-B50E-426F-83AD-42015B7A2F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00DC-9E06-43C1-826A-8B7385C997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0663-1C21-41DB-808D-FA12DFA5C2D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3018-8A82-4382-93F6-2C0BE59885C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BBE-946C-4642-A6FF-F323822BAE2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EFB-3975-42F3-979C-B73AEE9C5B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668-7AFA-44BF-9CAB-F5F25D44CF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9CE3-FE7B-406F-9E4C-31694C8FDD9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8F9-F12C-4891-8701-9888DE7F7A5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0C6-DAE0-483E-A013-763A1FDB0E6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604E-8D65-4C7B-95DB-DB835072E0B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811B-F5B3-4F07-B1F2-6A66261F13A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753-9000-45AC-8EDD-B87EE722F42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B5A5-BE57-4335-88FB-CDE1545196B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D2CD-2052-40C2-A8A3-30FF6F5BFB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2862-9A4D-467E-96D3-C218B9E6F49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B99-457D-4111-9DA4-4FE188F3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A6A-747D-4B64-BC99-33572D9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837-EE8A-4803-9E19-9434B2AF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72E-922A-4D98-A872-A9B205B0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706E-1A94-4030-8DE9-25ECE294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AB7-C8A4-492D-AE10-8CFC7AC0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CABD-6F33-4FEE-8DC6-E238C1B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BE0A-F64B-4C25-AE73-DA4C8C9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86B-120B-4FA2-A535-083B70A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F6C3-1E68-4FE5-B102-EC84E6F2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A0EA-75B3-4663-B003-C34B6B7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FD0-D602-4F2E-ABD5-2B9E1282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678-4B95-45E4-9BD0-7BD6034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F1CE-AC51-4C8C-8265-CDE32C3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3F5-99AC-4EFA-9D18-8FF2179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C43-6A1F-4E1E-B88F-9B5DFED0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B4EC-832B-4C43-98B2-5D080E4B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EF8A-337D-439E-B954-09788F7C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8C17-C529-421E-A1BB-7F847F90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DCEF-734C-4949-A531-35D1DB20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A6D4-1134-4C53-8FF7-361A8F56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4D57-3BED-4666-B0D1-35F37017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5B4-3E0E-41E6-A1EF-7EFA8003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4FBD-54E4-4288-B29A-082212DE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1422-35A1-4517-B234-90017A7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9E6E-286A-4BCD-A161-3F63646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E9FB-A51C-40BC-9801-1F25B93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4743-91A2-463F-921E-F4636031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1B56-CBC4-47EF-A1B3-41EDB896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4D9F-8C52-4AAE-B3A9-2C7881DE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D58F-4380-4BB1-9519-1443D215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5585-F192-4D3C-AF5B-6EEA53A9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5399-A3C0-4174-9160-019102B0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498-CC17-4ADC-B4A8-1C31EBAF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0C18-029D-4D1E-BF6E-D7F309E3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0B6A-F0B2-4836-AB4E-3997AE4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C919-27FE-4DBF-A2A5-D90C0CB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685C-2246-4238-A119-56E631B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A01B-25D7-462E-B227-DE1F06A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E46A-9184-4884-9F57-3A141B1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7B20-7524-450D-A186-A578207A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2FE8-2EC4-4534-9FF4-EFAD1ED7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FC14-4BF0-48DB-849B-5A0A18AE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DEB-AA47-4C14-9054-8070C5B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02A-1AFB-4868-88DB-11DE167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C25-AAC0-49C4-A0E7-78F82DA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A10-A1CD-4F99-BF83-74EEF99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A00-2F17-4134-8F5D-1F42D78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B5D5-5DE8-4406-8196-87AE6A081DC6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F2A-9E25-4EB0-A5A1-8A801A46F383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A3B6-0FED-41C5-9E0F-219343CE1C51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98FA-2833-47DB-8976-A7AEFDA4695C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1A25-911F-4190-8FD4-1A0B5FBE9566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74C-3462-4EAF-995A-61F1B92BF10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49AA-3FC7-471E-B540-5F2A2FD1E293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0968-5A43-463A-8676-A9F78787E6B8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433440"/>
            <a:ext cx="7351920" cy="1187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g. 468 #3-8,9c,10,11,13-15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y vector perpendicular to a plane is a “normal ” to the plane. It can be found by the Cross product of any 2 direction vectors of the plan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normal to a plane is used to determine many properties of a pla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 the vector equation i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parametric equations ar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320840" y="2852640"/>
          <a:ext cx="556416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2852640"/>
                    <a:ext cx="5564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3105000" y="4724280"/>
          <a:ext cx="221148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4724280"/>
                    <a:ext cx="221148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Catesian/Scalar equation is used most often becaus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t is simpler than the vector or parametric for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Unlike vector or parametric forms, there is only ONE Cartesian/Scalar equation for each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From a Scalar equation we can easily identify the normal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normal is often used 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***Identify whether two planes are parallel, coincident or perpendicul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parametric equations ar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oincident Plan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Scalar equations of planes are scalar multiples of each other. Ex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3" name="Object 2"/>
          <p:cNvGraphicFramePr/>
          <p:nvPr/>
        </p:nvGraphicFramePr>
        <p:xfrm>
          <a:off x="2268360" y="3213000"/>
          <a:ext cx="465300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46530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Plan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When normal vectors are parallel and they don’t share a common point. Ex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erpendicular Plan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-When normal vectors are perpendicular. Ex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7" name="Object 2"/>
          <p:cNvGraphicFramePr/>
          <p:nvPr/>
        </p:nvGraphicFramePr>
        <p:xfrm>
          <a:off x="5064120" y="2492280"/>
          <a:ext cx="402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4120" y="2492280"/>
                    <a:ext cx="402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Object 3" descr=""/>
          <p:cNvPicPr/>
          <p:nvPr/>
        </p:nvPicPr>
        <p:blipFill>
          <a:blip r:embed="rId3"/>
          <a:stretch/>
        </p:blipFill>
        <p:spPr>
          <a:xfrm>
            <a:off x="6012000" y="5877000"/>
            <a:ext cx="15843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3: Determine whether the following planes are parallel, coincident, perpendicular or neith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b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Object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995920" cy="151308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2"/>
          <a:stretch/>
        </p:blipFill>
        <p:spPr>
          <a:xfrm>
            <a:off x="5364000" y="2916360"/>
            <a:ext cx="291816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Object 5"/>
          <p:cNvGraphicFramePr/>
          <p:nvPr/>
        </p:nvGraphicFramePr>
        <p:xfrm>
          <a:off x="687240" y="3746520"/>
          <a:ext cx="4043520" cy="28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3746520"/>
                    <a:ext cx="40435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6" name="Object 6" descr=""/>
          <p:cNvPicPr/>
          <p:nvPr/>
        </p:nvPicPr>
        <p:blipFill>
          <a:blip r:embed="rId5"/>
          <a:stretch/>
        </p:blipFill>
        <p:spPr>
          <a:xfrm>
            <a:off x="5221440" y="4194000"/>
            <a:ext cx="3095640" cy="23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Normals can also be used to find whether a line is parallel and off, parallel and on or perpendicular to a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Line Perpendicular to a Plane: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Line Parallel to a Plane: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(parallel and on if they ALSO share a common poin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Object 3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2076480" cy="846360"/>
          </a:xfrm>
          <a:prstGeom prst="rect">
            <a:avLst/>
          </a:prstGeom>
          <a:ln w="0">
            <a:noFill/>
          </a:ln>
        </p:spPr>
      </p:pic>
      <p:pic>
        <p:nvPicPr>
          <p:cNvPr id="280" name="Object 4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1727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. 4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the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to the plan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so, does it lie on or off the plane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3" name="Object 2"/>
          <p:cNvGraphicFramePr/>
          <p:nvPr/>
        </p:nvGraphicFramePr>
        <p:xfrm>
          <a:off x="3780000" y="3068640"/>
          <a:ext cx="29527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068640"/>
                    <a:ext cx="29527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2195640" y="2421000"/>
          <a:ext cx="432108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421000"/>
                    <a:ext cx="4321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But we must now check if the line is on or off the 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1908000" y="2276640"/>
          <a:ext cx="345600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345600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5"/>
          <p:cNvGraphicFramePr/>
          <p:nvPr/>
        </p:nvGraphicFramePr>
        <p:xfrm>
          <a:off x="755640" y="1557360"/>
          <a:ext cx="45385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557360"/>
                    <a:ext cx="4538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 line is parallel and off the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1476360" y="1971720"/>
          <a:ext cx="523728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71720"/>
                    <a:ext cx="52372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of of Scalar Equation of a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be 2 points on the 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Let the normal to the plane b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187280" y="1989000"/>
          <a:ext cx="3313440" cy="5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331344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003640" y="2492280"/>
          <a:ext cx="19098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492280"/>
                    <a:ext cx="1909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1042920" y="3357720"/>
          <a:ext cx="6685200" cy="26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3357720"/>
                    <a:ext cx="668520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95280" y="105264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ngle between two planes with normal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843280" y="2349360"/>
          <a:ext cx="2462040" cy="14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246204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3"/>
          <p:cNvGraphicFramePr/>
          <p:nvPr/>
        </p:nvGraphicFramePr>
        <p:xfrm>
          <a:off x="6804000" y="1628640"/>
          <a:ext cx="16207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628640"/>
                    <a:ext cx="1620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arallelogram 5"/>
          <p:cNvSpPr/>
          <p:nvPr/>
        </p:nvSpPr>
        <p:spPr>
          <a:xfrm>
            <a:off x="1908000" y="4797360"/>
            <a:ext cx="2880000" cy="863640"/>
          </a:xfrm>
          <a:prstGeom prst="parallelogram">
            <a:avLst>
              <a:gd name="adj" fmla="val 65413"/>
            </a:avLst>
          </a:prstGeom>
          <a:gradFill rotWithShape="0">
            <a:gsLst>
              <a:gs pos="0">
                <a:srgbClr val="7030a0"/>
              </a:gs>
              <a:gs pos="100000">
                <a:srgbClr val="dee5f8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arallelogram 7"/>
          <p:cNvSpPr/>
          <p:nvPr/>
        </p:nvSpPr>
        <p:spPr>
          <a:xfrm rot="9981000">
            <a:off x="2468160" y="3898080"/>
            <a:ext cx="1542960" cy="2544840"/>
          </a:xfrm>
          <a:prstGeom prst="parallelogram">
            <a:avLst>
              <a:gd name="adj" fmla="val 24736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2484360" y="5661000"/>
            <a:ext cx="1440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1"/>
          <p:cNvSpPr/>
          <p:nvPr/>
        </p:nvSpPr>
        <p:spPr>
          <a:xfrm flipV="1">
            <a:off x="2771640" y="4869000"/>
            <a:ext cx="1008360" cy="792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13"/>
          <p:cNvCxnSpPr/>
          <p:nvPr/>
        </p:nvCxnSpPr>
        <p:spPr>
          <a:xfrm flipV="1">
            <a:off x="3203640" y="4581000"/>
            <a:ext cx="2160" cy="72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08" name="Straight Arrow Connector 16"/>
          <p:cNvCxnSpPr/>
          <p:nvPr/>
        </p:nvCxnSpPr>
        <p:spPr>
          <a:xfrm>
            <a:off x="3203280" y="5300640"/>
            <a:ext cx="5770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09" name="Arc 21"/>
          <p:cNvSpPr/>
          <p:nvPr/>
        </p:nvSpPr>
        <p:spPr>
          <a:xfrm rot="11393400">
            <a:off x="2333160" y="5008680"/>
            <a:ext cx="863640" cy="836640"/>
          </a:xfrm>
          <a:custGeom>
            <a:avLst/>
            <a:gdLst>
              <a:gd name="textAreaLeft" fmla="*/ 57960 w 863640"/>
              <a:gd name="textAreaRight" fmla="*/ 337680 w 863640"/>
              <a:gd name="textAreaTop" fmla="*/ 9720 h 836640"/>
              <a:gd name="textAreaBottom" fmla="*/ 208440 h 836640"/>
            </a:gdLst>
            <a:ahLst/>
            <a:rect l="textAreaLeft" t="textAreaTop" r="textAreaRight" b="textAreaBottom"/>
            <a:pathLst>
              <a:path stroke="0" w="863600" h="836612">
                <a:moveTo>
                  <a:pt x="58169" y="208620"/>
                </a:moveTo>
                <a:lnTo>
                  <a:pt x="58169" y="208620"/>
                </a:lnTo>
                <a:arcTo wR="431800" hR="418306" stAng="-9041902" swAng="2863439"/>
                <a:lnTo>
                  <a:pt x="431800" y="418306"/>
                </a:lnTo>
                <a:close/>
              </a:path>
              <a:path fill="none" w="863600" h="836612">
                <a:moveTo>
                  <a:pt x="58169" y="208620"/>
                </a:moveTo>
                <a:lnTo>
                  <a:pt x="58169" y="208620"/>
                </a:lnTo>
                <a:arcTo wR="431800" hR="418306" stAng="-9041902" swAng="2863439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4"/>
          <p:cNvGraphicFramePr/>
          <p:nvPr/>
        </p:nvGraphicFramePr>
        <p:xfrm>
          <a:off x="2916360" y="5805360"/>
          <a:ext cx="2872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805360"/>
                    <a:ext cx="287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 the Cartesian (Scalar) Equation of a Plane i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Where :   A&gt;0     and    A,B,C,D are inte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908000" y="2637000"/>
          <a:ext cx="376272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637000"/>
                    <a:ext cx="37627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Find the Cartesian/Scalar equation of the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at passes through point (-3,1,-7) and has normal vector (2,4,-5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547640" y="3645000"/>
          <a:ext cx="473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45000"/>
                    <a:ext cx="473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2050920" y="4292640"/>
          <a:ext cx="428004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292640"/>
                    <a:ext cx="428004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Find the Cartesian/Scalar equation of the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b) that represents the xz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1476360" y="3201840"/>
          <a:ext cx="583236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01840"/>
                    <a:ext cx="583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Similarly equations for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xy plane: z=0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yz plane: x=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Object 2"/>
          <p:cNvGraphicFramePr/>
          <p:nvPr/>
        </p:nvGraphicFramePr>
        <p:xfrm>
          <a:off x="971640" y="1773360"/>
          <a:ext cx="713268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1326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3780000" y="4653000"/>
          <a:ext cx="322740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653000"/>
                    <a:ext cx="32274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) that contains the points A(2,4,-1), B(3,0,2) and C(-1,-2,5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4" name="Object 2"/>
          <p:cNvGraphicFramePr/>
          <p:nvPr/>
        </p:nvGraphicFramePr>
        <p:xfrm>
          <a:off x="2073240" y="2824200"/>
          <a:ext cx="47307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2824200"/>
                    <a:ext cx="47307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2050920" y="1700280"/>
          <a:ext cx="468000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46800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3"/>
          <p:cNvGraphicFramePr/>
          <p:nvPr/>
        </p:nvGraphicFramePr>
        <p:xfrm>
          <a:off x="2050920" y="3429000"/>
          <a:ext cx="5235840" cy="25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429000"/>
                    <a:ext cx="52358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Find the vector and parametric equations of the plane,      , parallel to :                      and passing through the point B(2,3,-1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3" name="Object 2"/>
          <p:cNvGraphicFramePr/>
          <p:nvPr/>
        </p:nvGraphicFramePr>
        <p:xfrm>
          <a:off x="1979640" y="3213000"/>
          <a:ext cx="4403520" cy="10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213000"/>
                    <a:ext cx="44035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"/>
          <p:cNvGraphicFramePr/>
          <p:nvPr/>
        </p:nvGraphicFramePr>
        <p:xfrm>
          <a:off x="2268360" y="1844640"/>
          <a:ext cx="5749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844640"/>
                    <a:ext cx="5749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5"/>
          <p:cNvGraphicFramePr/>
          <p:nvPr/>
        </p:nvGraphicFramePr>
        <p:xfrm>
          <a:off x="4643280" y="1989000"/>
          <a:ext cx="22132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989000"/>
                    <a:ext cx="221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1778040" y="4581360"/>
          <a:ext cx="4294080" cy="107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8040" y="4581360"/>
                    <a:ext cx="42940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1-01-05T00:35:14Z</dcterms:modified>
  <cp:revision>342</cp:revision>
  <dc:subject/>
  <dc:title>2.2 Derivatives of Polynomial Functions</dc:title>
</cp:coreProperties>
</file>